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28.gif" ContentType="image/gif"/>
  <Override PartName="/ppt/media/image52.wmf" ContentType="image/x-wmf"/>
  <Override PartName="/ppt/media/image51.wmf" ContentType="image/x-wmf"/>
  <Override PartName="/ppt/media/image50.wmf" ContentType="image/x-wmf"/>
  <Override PartName="/ppt/media/image48.wmf" ContentType="image/x-wmf"/>
  <Override PartName="/ppt/media/image33.jpeg" ContentType="image/jpe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86.png" ContentType="image/png"/>
  <Override PartName="/ppt/media/image42.wmf" ContentType="image/x-wmf"/>
  <Override PartName="/ppt/media/image40.wmf" ContentType="image/x-wmf"/>
  <Override PartName="/ppt/media/image38.wmf" ContentType="image/x-wmf"/>
  <Override PartName="/ppt/media/image34.wmf" ContentType="image/x-wmf"/>
  <Override PartName="/ppt/media/image32.wmf" ContentType="image/x-wmf"/>
  <Override PartName="/ppt/media/image13.wmf" ContentType="image/x-wmf"/>
  <Override PartName="/ppt/media/image41.wmf" ContentType="image/x-wmf"/>
  <Override PartName="/ppt/media/image4.gif" ContentType="image/gif"/>
  <Override PartName="/ppt/media/image8.jpeg" ContentType="image/jpeg"/>
  <Override PartName="/ppt/media/image39.wmf" ContentType="image/x-wmf"/>
  <Override PartName="/ppt/media/image9.wmf" ContentType="image/x-wmf"/>
  <Override PartName="/ppt/media/image36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5.wmf" ContentType="image/x-wmf"/>
  <Override PartName="/ppt/media/image73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2.wmf" ContentType="image/x-wmf"/>
  <Override PartName="/ppt/media/image2.png" ContentType="image/png"/>
  <Override PartName="/ppt/media/image71.wmf" ContentType="image/x-wmf"/>
  <Override PartName="/ppt/media/image1.png" ContentType="image/png"/>
  <Override PartName="/ppt/media/image29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81.wmf" ContentType="image/x-wmf"/>
  <Override PartName="/ppt/media/image16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3.wmf" ContentType="image/x-wmf"/>
  <Override PartName="/ppt/media/image15.wmf" ContentType="image/x-wmf"/>
  <Override PartName="/ppt/media/image19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media/image23.wmf" ContentType="image/x-wmf"/>
  <Override PartName="/ppt/media/image11.jpeg" ContentType="image/jpeg"/>
  <Override PartName="/ppt/media/image87.jpeg" ContentType="image/jpeg"/>
  <Override PartName="/ppt/media/image27.wmf" ContentType="image/x-wmf"/>
  <Override PartName="/ppt/media/image12.wmf" ContentType="image/x-wmf"/>
  <Override PartName="/ppt/media/image49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31.jpeg" ContentType="image/jpeg"/>
  <Override PartName="/ppt/media/image47.wmf" ContentType="image/x-wmf"/>
  <Override PartName="/ppt/media/image6.wmf" ContentType="image/x-wmf"/>
  <Override PartName="/ppt/media/image18.wmf" ContentType="image/x-wmf"/>
  <Override PartName="/ppt/media/image30.jpeg" ContentType="image/jpeg"/>
  <Override PartName="/ppt/media/image8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D55F-7CF2-484D-ACBE-D3E56D0E5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F5 to start game.  Ctrl-End for help on creating a new g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slide immediately follows each question slide.  Click on question mark to go to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left box at bottom returns to game board.  Clicking right box returns to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F5 to start g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1E04-9664-4A10-8AED-A3A3AB8E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FD5A-AFE0-41B2-B8C1-C9F09C26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D654-B7AE-481F-B908-3C7F9871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36C-0FE9-4A27-B8CA-EC5DE0D9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92D7-AB2C-4D78-8F83-883FB699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3D9E-1973-44DC-B44A-BE2D6FE1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31C5-8FF2-4D8B-8FB3-728B5AF9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9950-350E-4968-8800-A530056B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0BE8-A2BF-4C6F-8BBB-8CE43A42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CC1A-89E3-4AB6-B8B5-A696782E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45A0-E0BB-4FDA-BA60-64477B78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4EB4-7F38-4ECC-88CA-8615E996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0C4E-8707-43F6-9613-7448BDBED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gif"/><Relationship Id="rId4" Type="http://schemas.openxmlformats.org/officeDocument/2006/relationships/slide" Target="slide4.xml"/><Relationship Id="rId5" Type="http://schemas.openxmlformats.org/officeDocument/2006/relationships/image" Target="../media/image29.wmf"/><Relationship Id="rId6" Type="http://schemas.openxmlformats.org/officeDocument/2006/relationships/slide" Target="slide3.xml"/><Relationship Id="rId7" Type="http://schemas.openxmlformats.org/officeDocument/2006/relationships/image" Target="../media/image30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33.jpeg"/><Relationship Id="rId5" Type="http://schemas.openxmlformats.org/officeDocument/2006/relationships/slide" Target="slide3.xml"/><Relationship Id="rId6" Type="http://schemas.openxmlformats.org/officeDocument/2006/relationships/image" Target="../media/image30.jpeg"/><Relationship Id="rId7" Type="http://schemas.openxmlformats.org/officeDocument/2006/relationships/slide" Target="slide3.xml"/><Relationship Id="rId8" Type="http://schemas.openxmlformats.org/officeDocument/2006/relationships/oleObject" Target="../embeddings/oleObject2.bin"/><Relationship Id="rId9" Type="http://schemas.openxmlformats.org/officeDocument/2006/relationships/image" Target="../media/image2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29.wmf"/><Relationship Id="rId5" Type="http://schemas.openxmlformats.org/officeDocument/2006/relationships/slide" Target="slide3.xml"/><Relationship Id="rId6" Type="http://schemas.openxmlformats.org/officeDocument/2006/relationships/image" Target="../media/image30.jpeg"/><Relationship Id="rId7" Type="http://schemas.openxmlformats.org/officeDocument/2006/relationships/slide" Target="slide3.xml"/><Relationship Id="rId8" Type="http://schemas.openxmlformats.org/officeDocument/2006/relationships/oleObject" Target="../embeddings/oleObject1.bin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4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8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4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9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4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1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5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43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5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5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46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6.wm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5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48.wmf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8.wmf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5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50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2.wmf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5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53.wmf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3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" Target="slide14.xml"/><Relationship Id="rId4" Type="http://schemas.openxmlformats.org/officeDocument/2006/relationships/slide" Target="slide20.xml"/><Relationship Id="rId5" Type="http://schemas.openxmlformats.org/officeDocument/2006/relationships/slide" Target="slide38.xml"/><Relationship Id="rId6" Type="http://schemas.openxmlformats.org/officeDocument/2006/relationships/slide" Target="slide28.xml"/><Relationship Id="rId7" Type="http://schemas.openxmlformats.org/officeDocument/2006/relationships/slide" Target="slide36.xml"/><Relationship Id="rId8" Type="http://schemas.openxmlformats.org/officeDocument/2006/relationships/slide" Target="slide26.xml"/><Relationship Id="rId9" Type="http://schemas.openxmlformats.org/officeDocument/2006/relationships/slide" Target="slide34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32.xml"/><Relationship Id="rId13" Type="http://schemas.openxmlformats.org/officeDocument/2006/relationships/slide" Target="slide30.xml"/><Relationship Id="rId14" Type="http://schemas.openxmlformats.org/officeDocument/2006/relationships/slide" Target="slide18.xml"/><Relationship Id="rId15" Type="http://schemas.openxmlformats.org/officeDocument/2006/relationships/slide" Target="slide16.xml"/><Relationship Id="rId16" Type="http://schemas.openxmlformats.org/officeDocument/2006/relationships/slide" Target="slide58.xml"/><Relationship Id="rId17" Type="http://schemas.openxmlformats.org/officeDocument/2006/relationships/slide" Target="slide56.xml"/><Relationship Id="rId18" Type="http://schemas.openxmlformats.org/officeDocument/2006/relationships/slide" Target="slide54.xml"/><Relationship Id="rId19" Type="http://schemas.openxmlformats.org/officeDocument/2006/relationships/slide" Target="slide52.xml"/><Relationship Id="rId20" Type="http://schemas.openxmlformats.org/officeDocument/2006/relationships/slide" Target="slide50.xml"/><Relationship Id="rId21" Type="http://schemas.openxmlformats.org/officeDocument/2006/relationships/slide" Target="slide48.xml"/><Relationship Id="rId22" Type="http://schemas.openxmlformats.org/officeDocument/2006/relationships/slide" Target="slide46.xml"/><Relationship Id="rId23" Type="http://schemas.openxmlformats.org/officeDocument/2006/relationships/slide" Target="slide44.xml"/><Relationship Id="rId24" Type="http://schemas.openxmlformats.org/officeDocument/2006/relationships/slide" Target="slide42.xml"/><Relationship Id="rId25" Type="http://schemas.openxmlformats.org/officeDocument/2006/relationships/slide" Target="slide40.xml"/><Relationship Id="rId26" Type="http://schemas.openxmlformats.org/officeDocument/2006/relationships/slide" Target="slide12.xml"/><Relationship Id="rId27" Type="http://schemas.openxmlformats.org/officeDocument/2006/relationships/slide" Target="slide62.xml"/><Relationship Id="rId28" Type="http://schemas.openxmlformats.org/officeDocument/2006/relationships/slide" Target="slide60.xml"/><Relationship Id="rId29" Type="http://schemas.openxmlformats.org/officeDocument/2006/relationships/slide" Target="slide64.xml"/><Relationship Id="rId30" Type="http://schemas.openxmlformats.org/officeDocument/2006/relationships/slide" Target="slide66.xml"/><Relationship Id="rId31" Type="http://schemas.openxmlformats.org/officeDocument/2006/relationships/slide" Target="slide68.xml"/><Relationship Id="rId32" Type="http://schemas.openxmlformats.org/officeDocument/2006/relationships/slide" Target="slide5.xml"/><Relationship Id="rId33" Type="http://schemas.openxmlformats.org/officeDocument/2006/relationships/slide" Target="slide6.xml"/><Relationship Id="rId34" Type="http://schemas.openxmlformats.org/officeDocument/2006/relationships/slide" Target="slide7.xml"/><Relationship Id="rId35" Type="http://schemas.openxmlformats.org/officeDocument/2006/relationships/slide" Target="slide8.xml"/><Relationship Id="rId36" Type="http://schemas.openxmlformats.org/officeDocument/2006/relationships/slide" Target="slide9.xml"/><Relationship Id="rId37" Type="http://schemas.openxmlformats.org/officeDocument/2006/relationships/slide" Target="slide10.xml"/><Relationship Id="rId38" Type="http://schemas.openxmlformats.org/officeDocument/2006/relationships/image" Target="../media/image9.wmf"/><Relationship Id="rId39" Type="http://schemas.openxmlformats.org/officeDocument/2006/relationships/image" Target="../media/image10.wmf"/><Relationship Id="rId4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6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55.wmf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6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57.wmf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30.jpeg"/><Relationship Id="rId5" Type="http://schemas.openxmlformats.org/officeDocument/2006/relationships/slide" Target="slide3.xml"/><Relationship Id="rId6" Type="http://schemas.openxmlformats.org/officeDocument/2006/relationships/image" Target="../media/image33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7.wmf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6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59.wmf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9.wm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6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61.wmf"/><Relationship Id="rId9" Type="http://schemas.openxmlformats.org/officeDocument/2006/relationships/image" Target="../media/image62.wmf"/><Relationship Id="rId10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1.wmf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image" Target="../media/image29.wmf"/><Relationship Id="rId5" Type="http://schemas.openxmlformats.org/officeDocument/2006/relationships/slide" Target="slide3.xml"/><Relationship Id="rId6" Type="http://schemas.openxmlformats.org/officeDocument/2006/relationships/image" Target="../media/image30.jpeg"/><Relationship Id="rId7" Type="http://schemas.openxmlformats.org/officeDocument/2006/relationships/slide" Target="slide3.xml"/><Relationship Id="rId8" Type="http://schemas.openxmlformats.org/officeDocument/2006/relationships/oleObject" Target="../embeddings/oleObject1.bin"/><Relationship Id="rId9" Type="http://schemas.openxmlformats.org/officeDocument/2006/relationships/image" Target="../media/image64.wmf"/><Relationship Id="rId10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4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7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66.wmf"/><Relationship Id="rId9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30.jpeg"/><Relationship Id="rId5" Type="http://schemas.openxmlformats.org/officeDocument/2006/relationships/slide" Target="slide3.xml"/><Relationship Id="rId6" Type="http://schemas.openxmlformats.org/officeDocument/2006/relationships/image" Target="../media/image33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7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67.wmf"/><Relationship Id="rId9" Type="http://schemas.openxmlformats.org/officeDocument/2006/relationships/image" Target="../media/image62.wmf"/><Relationship Id="rId10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7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68.wmf"/><Relationship Id="rId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7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70.wmf"/><Relationship Id="rId9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7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71.wmf"/><Relationship Id="rId9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30.jpeg"/><Relationship Id="rId5" Type="http://schemas.openxmlformats.org/officeDocument/2006/relationships/slide" Target="slide3.xml"/><Relationship Id="rId6" Type="http://schemas.openxmlformats.org/officeDocument/2006/relationships/image" Target="../media/image33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1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image" Target="../media/image29.wmf"/><Relationship Id="rId5" Type="http://schemas.openxmlformats.org/officeDocument/2006/relationships/slide" Target="slide3.xml"/><Relationship Id="rId6" Type="http://schemas.openxmlformats.org/officeDocument/2006/relationships/image" Target="../media/image30.jpeg"/><Relationship Id="rId7" Type="http://schemas.openxmlformats.org/officeDocument/2006/relationships/slide" Target="slide3.xml"/><Relationship Id="rId8" Type="http://schemas.openxmlformats.org/officeDocument/2006/relationships/oleObject" Target="../embeddings/oleObject1.bin"/><Relationship Id="rId9" Type="http://schemas.openxmlformats.org/officeDocument/2006/relationships/image" Target="../media/image72.wmf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2.wmf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8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74.wmf"/><Relationship Id="rId9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4.wmf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8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76.wmf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6.wmf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8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78.wmf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8.wmf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8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80.wmf"/><Relationship Id="rId9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80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3.xml"/><Relationship Id="rId3" Type="http://schemas.openxmlformats.org/officeDocument/2006/relationships/slide" Target="slide9.xml"/><Relationship Id="rId4" Type="http://schemas.openxmlformats.org/officeDocument/2006/relationships/image" Target="../media/image29.wmf"/><Relationship Id="rId5" Type="http://schemas.openxmlformats.org/officeDocument/2006/relationships/slide" Target="slide3.xml"/><Relationship Id="rId6" Type="http://schemas.openxmlformats.org/officeDocument/2006/relationships/image" Target="../media/image30.jpeg"/><Relationship Id="rId7" Type="http://schemas.openxmlformats.org/officeDocument/2006/relationships/slide" Target="slide3.xml"/><Relationship Id="rId8" Type="http://schemas.openxmlformats.org/officeDocument/2006/relationships/oleObject" Target="../embeddings/oleObject1.bin"/><Relationship Id="rId9" Type="http://schemas.openxmlformats.org/officeDocument/2006/relationships/image" Target="../media/image82.wmf"/><Relationship Id="rId10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3.wmf"/><Relationship Id="rId8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9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82.wmf"/><Relationship Id="rId9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3.wmf"/><Relationship Id="rId8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9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82.wmf"/><Relationship Id="rId9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3.wmf"/><Relationship Id="rId8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9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82.wmf"/><Relationship Id="rId9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3.wmf"/><Relationship Id="rId8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9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82.wmf"/><Relationship Id="rId9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3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30.jpeg"/><Relationship Id="rId3" Type="http://schemas.openxmlformats.org/officeDocument/2006/relationships/image" Target="../media/image2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4.wmf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0.jpeg"/><Relationship Id="rId3" Type="http://schemas.openxmlformats.org/officeDocument/2006/relationships/image" Target="../media/image3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5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4.wmf"/><Relationship Id="rId8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6.png"/><Relationship Id="rId3" Type="http://schemas.openxmlformats.org/officeDocument/2006/relationships/image" Target="../media/image86.png"/><Relationship Id="rId4" Type="http://schemas.openxmlformats.org/officeDocument/2006/relationships/image" Target="../media/image86.png"/><Relationship Id="rId5" Type="http://schemas.openxmlformats.org/officeDocument/2006/relationships/image" Target="../media/image62.wmf"/><Relationship Id="rId6" Type="http://schemas.openxmlformats.org/officeDocument/2006/relationships/image" Target="../media/image86.png"/><Relationship Id="rId7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7.jpe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2120" y="1981080"/>
            <a:ext cx="77724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ess  F5  t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art gam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-304920"/>
            <a:ext cx="17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emplate Version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5105520"/>
            <a:ext cx="51055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d &amp; Cut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 and help/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71600" y="1752480"/>
          <a:ext cx="6472080" cy="33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647208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j0172629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j010517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203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048120" y="2400480"/>
          <a:ext cx="5333760" cy="226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2400480"/>
                    <a:ext cx="533376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24382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213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7724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 txBox="1"/>
            <p:nvPr/>
          </p:nvSpPr>
          <p:spPr>
            <a:xfrm>
              <a:off x="78487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15" name="">
              <a:hlinkClick r:id="" action="ppaction://hlinkshowjump?jump=previous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17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220" name=""/>
          <p:cNvGraphicFramePr/>
          <p:nvPr/>
        </p:nvGraphicFramePr>
        <p:xfrm>
          <a:off x="76320" y="2743200"/>
          <a:ext cx="2743200" cy="1415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743200"/>
                    <a:ext cx="274320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3048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j010517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32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371600" y="1752480"/>
          <a:ext cx="6472080" cy="3341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71600" y="1752480"/>
                    <a:ext cx="647208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743200" y="1523880"/>
            <a:ext cx="579132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42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246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48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9" name=""/>
          <p:cNvGraphicFramePr/>
          <p:nvPr/>
        </p:nvGraphicFramePr>
        <p:xfrm>
          <a:off x="2895480" y="2816280"/>
          <a:ext cx="5562720" cy="1482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95480" y="2816280"/>
                    <a:ext cx="556272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76320" y="2852640"/>
          <a:ext cx="2590560" cy="13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852640"/>
                    <a:ext cx="25905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3124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5780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05120" y="25146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79840" y="2479680"/>
            <a:ext cx="20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63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371600" y="1752480"/>
          <a:ext cx="6472080" cy="334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1752480"/>
                    <a:ext cx="647208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819520" y="1523880"/>
            <a:ext cx="5715000" cy="396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74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278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80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1" name=""/>
          <p:cNvGraphicFramePr/>
          <p:nvPr/>
        </p:nvGraphicFramePr>
        <p:xfrm>
          <a:off x="3154320" y="2362320"/>
          <a:ext cx="5197680" cy="2205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54320" y="2362320"/>
                    <a:ext cx="519768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76320" y="2814480"/>
          <a:ext cx="2666880" cy="1376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814480"/>
                    <a:ext cx="2666880" cy="13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733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43434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989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94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676520" y="1600200"/>
          <a:ext cx="5790960" cy="380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1600200"/>
                    <a:ext cx="57909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05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30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11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2" name=""/>
          <p:cNvGraphicFramePr/>
          <p:nvPr/>
        </p:nvGraphicFramePr>
        <p:xfrm>
          <a:off x="3124080" y="2884320"/>
          <a:ext cx="5334120" cy="1292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24080" y="2884320"/>
                    <a:ext cx="53341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76320" y="2386080"/>
          <a:ext cx="2743200" cy="1805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386080"/>
                    <a:ext cx="274320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322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23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066680" y="1797120"/>
          <a:ext cx="7010640" cy="341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1797120"/>
                    <a:ext cx="701064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34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338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40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1" name=""/>
          <p:cNvGraphicFramePr/>
          <p:nvPr/>
        </p:nvGraphicFramePr>
        <p:xfrm>
          <a:off x="5130720" y="2800440"/>
          <a:ext cx="99072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30720" y="2800440"/>
                    <a:ext cx="9907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76320" y="2854440"/>
          <a:ext cx="2743200" cy="1336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854440"/>
                    <a:ext cx="274320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64400" y="514440"/>
            <a:ext cx="393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99"/>
                </a:solidFill>
                <a:latin typeface="Times New Roman"/>
              </a:rPr>
              <a:t>This is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D05092_" descr=""/>
          <p:cNvPicPr/>
          <p:nvPr/>
        </p:nvPicPr>
        <p:blipFill>
          <a:blip r:embed="rId3"/>
          <a:stretch/>
        </p:blipFill>
        <p:spPr>
          <a:xfrm>
            <a:off x="380880" y="2895480"/>
            <a:ext cx="3803760" cy="3451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ning 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609480"/>
            <a:ext cx="7620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ath Jeopard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5638680"/>
            <a:ext cx="3581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j0236467" descr=""/>
          <p:cNvPicPr/>
          <p:nvPr/>
        </p:nvPicPr>
        <p:blipFill>
          <a:blip r:embed="rId4"/>
          <a:stretch/>
        </p:blipFill>
        <p:spPr>
          <a:xfrm>
            <a:off x="7238880" y="539424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59" name="BD05091_" descr=""/>
          <p:cNvPicPr/>
          <p:nvPr/>
        </p:nvPicPr>
        <p:blipFill>
          <a:blip r:embed="rId5"/>
          <a:stretch/>
        </p:blipFill>
        <p:spPr>
          <a:xfrm>
            <a:off x="1447920" y="0"/>
            <a:ext cx="3322440" cy="3027240"/>
          </a:xfrm>
          <a:prstGeom prst="rect">
            <a:avLst/>
          </a:prstGeom>
          <a:ln w="0">
            <a:noFill/>
          </a:ln>
        </p:spPr>
      </p:pic>
      <p:pic>
        <p:nvPicPr>
          <p:cNvPr id="60" name="j0182990" descr=""/>
          <p:cNvPicPr/>
          <p:nvPr/>
        </p:nvPicPr>
        <p:blipFill>
          <a:blip r:embed="rId6"/>
          <a:stretch/>
        </p:blipFill>
        <p:spPr>
          <a:xfrm>
            <a:off x="6095880" y="6858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19720" y="3047760"/>
            <a:ext cx="44193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99"/>
                </a:solidFill>
                <a:latin typeface="Times New Roman"/>
              </a:rPr>
              <a:t>Algebra Part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99"/>
                </a:solidFill>
                <a:latin typeface="Times New Roman"/>
              </a:rPr>
              <a:t>Slopes &amp; Li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30271" descr=""/>
          <p:cNvPicPr/>
          <p:nvPr/>
        </p:nvPicPr>
        <p:blipFill>
          <a:blip r:embed="rId7"/>
          <a:stretch/>
        </p:blipFill>
        <p:spPr>
          <a:xfrm>
            <a:off x="2057400" y="2362320"/>
            <a:ext cx="4672080" cy="4282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019400" y="1847880"/>
                <a:ext cx="11304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990720" y="29718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3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56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359" name=""/>
          <p:cNvGraphicFramePr/>
          <p:nvPr/>
        </p:nvGraphicFramePr>
        <p:xfrm>
          <a:off x="2249640" y="2124000"/>
          <a:ext cx="4719600" cy="277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49640" y="2124000"/>
                    <a:ext cx="471960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71800" y="1676520"/>
            <a:ext cx="28195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68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372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74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75" name=""/>
          <p:cNvGraphicFramePr/>
          <p:nvPr/>
        </p:nvGraphicFramePr>
        <p:xfrm>
          <a:off x="3665520" y="2666880"/>
          <a:ext cx="4075200" cy="1540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65520" y="2666880"/>
                    <a:ext cx="4075200" cy="15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76320" y="2665440"/>
          <a:ext cx="2590560" cy="152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665440"/>
                    <a:ext cx="2590560" cy="15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38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88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2249640" y="2124000"/>
          <a:ext cx="4719600" cy="277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49640" y="2124000"/>
                    <a:ext cx="471960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99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403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05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06" name=""/>
          <p:cNvGraphicFramePr/>
          <p:nvPr/>
        </p:nvGraphicFramePr>
        <p:xfrm>
          <a:off x="3809880" y="1865160"/>
          <a:ext cx="3632400" cy="3410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9880" y="1865160"/>
                    <a:ext cx="3632400" cy="34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76320" y="2576520"/>
          <a:ext cx="2743200" cy="1614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576520"/>
                    <a:ext cx="274320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4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41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17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1003320" y="2075040"/>
          <a:ext cx="7213680" cy="287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03320" y="2075040"/>
                    <a:ext cx="721368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28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432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34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35" name=""/>
          <p:cNvGraphicFramePr/>
          <p:nvPr/>
        </p:nvGraphicFramePr>
        <p:xfrm>
          <a:off x="3863880" y="1865160"/>
          <a:ext cx="3522600" cy="3410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63880" y="1865160"/>
                    <a:ext cx="3522600" cy="34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76320" y="3067200"/>
          <a:ext cx="2819160" cy="11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3067200"/>
                    <a:ext cx="28191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46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003320" y="2075040"/>
          <a:ext cx="7213680" cy="287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03320" y="2075040"/>
                    <a:ext cx="721368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57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46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63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64" name=""/>
          <p:cNvGraphicFramePr/>
          <p:nvPr/>
        </p:nvGraphicFramePr>
        <p:xfrm>
          <a:off x="3919680" y="2800440"/>
          <a:ext cx="341136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19680" y="2800440"/>
                    <a:ext cx="341136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76320" y="3067200"/>
          <a:ext cx="2819160" cy="11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3067200"/>
                    <a:ext cx="28191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2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47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75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003320" y="2075040"/>
          <a:ext cx="7213680" cy="287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03320" y="2075040"/>
                    <a:ext cx="721368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86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490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92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93" name=""/>
          <p:cNvGraphicFramePr/>
          <p:nvPr/>
        </p:nvGraphicFramePr>
        <p:xfrm>
          <a:off x="3581280" y="1828800"/>
          <a:ext cx="3962520" cy="359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81280" y="1828800"/>
                    <a:ext cx="396252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76320" y="3097080"/>
          <a:ext cx="2743200" cy="1094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3097080"/>
                    <a:ext cx="274320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228600"/>
            <a:ext cx="8686800" cy="838080"/>
          </a:xfrm>
          <a:prstGeom prst="rect">
            <a:avLst/>
          </a:prstGeom>
          <a:solidFill>
            <a:srgbClr val="00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Math Jeopar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380880" y="1447920"/>
            <a:ext cx="106704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lope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-inter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0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1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3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4" action="ppaction://hlinksldjump"/>
              </a:rPr>
              <a:t>$5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7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9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2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4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5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352680"/>
            <a:ext cx="914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6" action="ppaction://hlinksldjump"/>
              </a:rPr>
              <a:t>$2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48720" y="3429000"/>
            <a:ext cx="87624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4872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8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4267080"/>
            <a:ext cx="914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4872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32" action="ppaction://hlinksldjump"/>
          </p:cNvPr>
          <p:cNvSpPr/>
          <p:nvPr/>
        </p:nvSpPr>
        <p:spPr>
          <a:xfrm>
            <a:off x="190512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l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33" action="ppaction://hlinksldjump"/>
          </p:cNvPr>
          <p:cNvSpPr/>
          <p:nvPr/>
        </p:nvSpPr>
        <p:spPr>
          <a:xfrm>
            <a:off x="3276720" y="1447920"/>
            <a:ext cx="121896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lv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34" action="ppaction://hlinksldjump"/>
          </p:cNvPr>
          <p:cNvSpPr/>
          <p:nvPr/>
        </p:nvSpPr>
        <p:spPr>
          <a:xfrm>
            <a:off x="480060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y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35" action="ppaction://hlinksldjump"/>
          </p:cNvPr>
          <p:cNvSpPr/>
          <p:nvPr/>
        </p:nvSpPr>
        <p:spPr>
          <a:xfrm>
            <a:off x="624852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 th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36" action="ppaction://hlinksldjump"/>
          </p:cNvPr>
          <p:cNvSpPr/>
          <p:nvPr/>
        </p:nvSpPr>
        <p:spPr>
          <a:xfrm>
            <a:off x="777240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t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7" action="ppaction://hlinksldjump"/>
              </a:rPr>
              <a:t>$1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99560" y="205740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lick on a category for hel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HH01298_" descr=""/>
          <p:cNvPicPr/>
          <p:nvPr/>
        </p:nvPicPr>
        <p:blipFill>
          <a:blip r:embed="rId38"/>
          <a:stretch/>
        </p:blipFill>
        <p:spPr>
          <a:xfrm>
            <a:off x="8228160" y="228600"/>
            <a:ext cx="644400" cy="838080"/>
          </a:xfrm>
          <a:prstGeom prst="rect">
            <a:avLst/>
          </a:prstGeom>
          <a:ln w="0">
            <a:noFill/>
          </a:ln>
        </p:spPr>
      </p:pic>
      <p:pic>
        <p:nvPicPr>
          <p:cNvPr id="105" name="j0104750" descr=""/>
          <p:cNvPicPr/>
          <p:nvPr/>
        </p:nvPicPr>
        <p:blipFill>
          <a:blip r:embed="rId39"/>
          <a:stretch/>
        </p:blipFill>
        <p:spPr>
          <a:xfrm>
            <a:off x="7543800" y="457200"/>
            <a:ext cx="676440" cy="36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808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a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0"/>
            <a:ext cx="4419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1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50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04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507" name=""/>
          <p:cNvGraphicFramePr/>
          <p:nvPr/>
        </p:nvGraphicFramePr>
        <p:xfrm>
          <a:off x="2438280" y="2362320"/>
          <a:ext cx="4264200" cy="208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362320"/>
                    <a:ext cx="426420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15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51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21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22" name=""/>
          <p:cNvGraphicFramePr/>
          <p:nvPr/>
        </p:nvGraphicFramePr>
        <p:xfrm>
          <a:off x="4084560" y="2854440"/>
          <a:ext cx="3081240" cy="1430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84560" y="2854440"/>
                    <a:ext cx="308124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76320" y="2849400"/>
          <a:ext cx="2743200" cy="1341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849400"/>
                    <a:ext cx="27432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532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33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798560" y="2438280"/>
          <a:ext cx="5543640" cy="193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8560" y="2438280"/>
                    <a:ext cx="554364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45" name="Jeopardy%20Thumbnail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>
              <a:hlinkClick r:id="rId5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54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51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2" name=""/>
          <p:cNvGraphicFramePr/>
          <p:nvPr/>
        </p:nvGraphicFramePr>
        <p:xfrm>
          <a:off x="4084560" y="2800440"/>
          <a:ext cx="3081240" cy="15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84560" y="2800440"/>
                    <a:ext cx="308124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76320" y="3235320"/>
          <a:ext cx="2743200" cy="95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320" y="3235320"/>
                    <a:ext cx="274320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562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63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2282760" y="2438280"/>
          <a:ext cx="4573800" cy="193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2760" y="2438280"/>
                    <a:ext cx="457380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74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578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80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81" name=""/>
          <p:cNvGraphicFramePr/>
          <p:nvPr/>
        </p:nvGraphicFramePr>
        <p:xfrm>
          <a:off x="3863880" y="2854440"/>
          <a:ext cx="3522600" cy="1430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63880" y="2854440"/>
                    <a:ext cx="35226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76320" y="3000240"/>
          <a:ext cx="2819160" cy="119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3000240"/>
                    <a:ext cx="281916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9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59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92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447920" y="1752480"/>
          <a:ext cx="6511680" cy="193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1752480"/>
                    <a:ext cx="651168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8" name=""/>
          <p:cNvGrpSpPr/>
          <p:nvPr/>
        </p:nvGrpSpPr>
        <p:grpSpPr>
          <a:xfrm>
            <a:off x="2895480" y="3657600"/>
            <a:ext cx="4181400" cy="2233440"/>
            <a:chOff x="2895480" y="3657600"/>
            <a:chExt cx="4181400" cy="2233440"/>
          </a:xfrm>
        </p:grpSpPr>
        <p:pic>
          <p:nvPicPr>
            <p:cNvPr id="599" name="" descr=""/>
            <p:cNvPicPr/>
            <p:nvPr/>
          </p:nvPicPr>
          <p:blipFill>
            <a:blip r:embed="rId9"/>
            <a:stretch/>
          </p:blipFill>
          <p:spPr>
            <a:xfrm>
              <a:off x="3657600" y="3657600"/>
              <a:ext cx="238104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 txBox="1"/>
            <p:nvPr/>
          </p:nvSpPr>
          <p:spPr>
            <a:xfrm>
              <a:off x="2895480" y="4343400"/>
              <a:ext cx="418140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DAILY DOUBLE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895480" y="1523880"/>
            <a:ext cx="5943600" cy="396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06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610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12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3" name=""/>
          <p:cNvGraphicFramePr/>
          <p:nvPr/>
        </p:nvGraphicFramePr>
        <p:xfrm>
          <a:off x="3700440" y="2800440"/>
          <a:ext cx="385128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00440" y="2800440"/>
                    <a:ext cx="385128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76320" y="3355920"/>
          <a:ext cx="2819160" cy="835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3355920"/>
                    <a:ext cx="28191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1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j010517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62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25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1952640" y="2362320"/>
          <a:ext cx="5234040" cy="2084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52640" y="2362320"/>
                    <a:ext cx="52340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-45720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36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640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42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43" name=""/>
          <p:cNvGraphicFramePr/>
          <p:nvPr/>
        </p:nvGraphicFramePr>
        <p:xfrm>
          <a:off x="3700440" y="2854440"/>
          <a:ext cx="3851280" cy="1430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00440" y="2854440"/>
                    <a:ext cx="385128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"/>
          <p:cNvGraphicFramePr/>
          <p:nvPr/>
        </p:nvGraphicFramePr>
        <p:xfrm>
          <a:off x="76320" y="3098880"/>
          <a:ext cx="2743200" cy="1092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3098880"/>
                    <a:ext cx="274320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Slope &amp; Y-intercep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71600" y="1219320"/>
          <a:ext cx="6243480" cy="10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219320"/>
                    <a:ext cx="62434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752480" y="2819520"/>
          <a:ext cx="2035440" cy="375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2819520"/>
                    <a:ext cx="203544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648320" y="2895480"/>
          <a:ext cx="4051080" cy="3149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2895480"/>
                    <a:ext cx="40510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685800" y="25146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358128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962520" y="4190760"/>
            <a:ext cx="60948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-360" y="-533520"/>
            <a:ext cx="2514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1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65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54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657" name=""/>
          <p:cNvGraphicFramePr/>
          <p:nvPr/>
        </p:nvGraphicFramePr>
        <p:xfrm>
          <a:off x="1951200" y="2046240"/>
          <a:ext cx="5133960" cy="235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51200" y="2046240"/>
                    <a:ext cx="51339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9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65" name="Jeopardy%20Thumbnail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>
              <a:hlinkClick r:id="rId5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66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71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72" name=""/>
          <p:cNvGraphicFramePr/>
          <p:nvPr/>
        </p:nvGraphicFramePr>
        <p:xfrm>
          <a:off x="76320" y="2930400"/>
          <a:ext cx="2743200" cy="126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320" y="2930400"/>
                    <a:ext cx="2743200" cy="12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4" name=""/>
          <p:cNvGrpSpPr/>
          <p:nvPr/>
        </p:nvGrpSpPr>
        <p:grpSpPr>
          <a:xfrm>
            <a:off x="3125160" y="1447920"/>
            <a:ext cx="4240800" cy="4114800"/>
            <a:chOff x="3125160" y="1447920"/>
            <a:chExt cx="4240800" cy="4114800"/>
          </a:xfrm>
        </p:grpSpPr>
        <p:graphicFrame>
          <p:nvGraphicFramePr>
            <p:cNvPr id="675" name=""/>
            <p:cNvGraphicFramePr/>
            <p:nvPr/>
          </p:nvGraphicFramePr>
          <p:xfrm>
            <a:off x="4191120" y="1905120"/>
            <a:ext cx="3174840" cy="3657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7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191120" y="1905120"/>
                      <a:ext cx="317484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7" name=""/>
            <p:cNvSpPr/>
            <p:nvPr/>
          </p:nvSpPr>
          <p:spPr>
            <a:xfrm>
              <a:off x="5258880" y="14479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125160" y="35053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 flipV="1">
            <a:off x="5638680" y="1981080"/>
            <a:ext cx="1143000" cy="36576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4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68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87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2057400" y="1600200"/>
          <a:ext cx="5133960" cy="235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1600200"/>
                    <a:ext cx="51339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3" name=""/>
          <p:cNvGrpSpPr/>
          <p:nvPr/>
        </p:nvGrpSpPr>
        <p:grpSpPr>
          <a:xfrm>
            <a:off x="2895480" y="3886200"/>
            <a:ext cx="4181400" cy="2233440"/>
            <a:chOff x="2895480" y="3886200"/>
            <a:chExt cx="4181400" cy="2233440"/>
          </a:xfrm>
        </p:grpSpPr>
        <p:pic>
          <p:nvPicPr>
            <p:cNvPr id="694" name="" descr=""/>
            <p:cNvPicPr/>
            <p:nvPr/>
          </p:nvPicPr>
          <p:blipFill>
            <a:blip r:embed="rId9"/>
            <a:stretch/>
          </p:blipFill>
          <p:spPr>
            <a:xfrm>
              <a:off x="3657600" y="3886200"/>
              <a:ext cx="238104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 txBox="1"/>
            <p:nvPr/>
          </p:nvSpPr>
          <p:spPr>
            <a:xfrm>
              <a:off x="2895480" y="4572000"/>
              <a:ext cx="418140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DAILY DOUBLE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01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705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07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08" name=""/>
          <p:cNvGraphicFramePr/>
          <p:nvPr/>
        </p:nvGraphicFramePr>
        <p:xfrm>
          <a:off x="76320" y="2895480"/>
          <a:ext cx="2819160" cy="129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2895480"/>
                    <a:ext cx="28191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0" name=""/>
          <p:cNvGrpSpPr/>
          <p:nvPr/>
        </p:nvGrpSpPr>
        <p:grpSpPr>
          <a:xfrm>
            <a:off x="3125160" y="1447920"/>
            <a:ext cx="4240800" cy="4114800"/>
            <a:chOff x="3125160" y="1447920"/>
            <a:chExt cx="4240800" cy="4114800"/>
          </a:xfrm>
        </p:grpSpPr>
        <p:graphicFrame>
          <p:nvGraphicFramePr>
            <p:cNvPr id="711" name=""/>
            <p:cNvGraphicFramePr/>
            <p:nvPr/>
          </p:nvGraphicFramePr>
          <p:xfrm>
            <a:off x="4191120" y="1905120"/>
            <a:ext cx="3174840" cy="3657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1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191120" y="1905120"/>
                      <a:ext cx="317484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3" name=""/>
            <p:cNvSpPr/>
            <p:nvPr/>
          </p:nvSpPr>
          <p:spPr>
            <a:xfrm>
              <a:off x="5258880" y="14479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125160" y="35053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 flipH="1">
            <a:off x="4266720" y="1066680"/>
            <a:ext cx="1752840" cy="3733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722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23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1951200" y="2046240"/>
          <a:ext cx="5133960" cy="235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51200" y="2046240"/>
                    <a:ext cx="51339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124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34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738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40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41" name=""/>
          <p:cNvGraphicFramePr/>
          <p:nvPr/>
        </p:nvGraphicFramePr>
        <p:xfrm>
          <a:off x="76320" y="2895480"/>
          <a:ext cx="2819160" cy="129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2895480"/>
                    <a:ext cx="28191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3" name=""/>
          <p:cNvGrpSpPr/>
          <p:nvPr/>
        </p:nvGrpSpPr>
        <p:grpSpPr>
          <a:xfrm>
            <a:off x="3125160" y="1447920"/>
            <a:ext cx="4240800" cy="4114800"/>
            <a:chOff x="3125160" y="1447920"/>
            <a:chExt cx="4240800" cy="4114800"/>
          </a:xfrm>
        </p:grpSpPr>
        <p:graphicFrame>
          <p:nvGraphicFramePr>
            <p:cNvPr id="744" name=""/>
            <p:cNvGraphicFramePr/>
            <p:nvPr/>
          </p:nvGraphicFramePr>
          <p:xfrm>
            <a:off x="4191120" y="1905120"/>
            <a:ext cx="3174840" cy="3657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4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191120" y="1905120"/>
                      <a:ext cx="317484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6" name=""/>
            <p:cNvSpPr/>
            <p:nvPr/>
          </p:nvSpPr>
          <p:spPr>
            <a:xfrm>
              <a:off x="5258880" y="14479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25160" y="35053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 flipV="1">
            <a:off x="3886200" y="4191120"/>
            <a:ext cx="3657600" cy="1295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3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75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56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1951200" y="2046240"/>
          <a:ext cx="5133960" cy="235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51200" y="2046240"/>
                    <a:ext cx="51339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67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77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73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74" name=""/>
          <p:cNvGraphicFramePr/>
          <p:nvPr/>
        </p:nvGraphicFramePr>
        <p:xfrm>
          <a:off x="0" y="2930400"/>
          <a:ext cx="2743200" cy="1260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2930400"/>
                    <a:ext cx="2743200" cy="12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6" name=""/>
          <p:cNvGrpSpPr/>
          <p:nvPr/>
        </p:nvGrpSpPr>
        <p:grpSpPr>
          <a:xfrm>
            <a:off x="3125160" y="1447920"/>
            <a:ext cx="4240800" cy="4114800"/>
            <a:chOff x="3125160" y="1447920"/>
            <a:chExt cx="4240800" cy="4114800"/>
          </a:xfrm>
        </p:grpSpPr>
        <p:graphicFrame>
          <p:nvGraphicFramePr>
            <p:cNvPr id="777" name=""/>
            <p:cNvGraphicFramePr/>
            <p:nvPr/>
          </p:nvGraphicFramePr>
          <p:xfrm>
            <a:off x="4191120" y="1905120"/>
            <a:ext cx="3174840" cy="3657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7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191120" y="1905120"/>
                      <a:ext cx="317484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9" name=""/>
            <p:cNvSpPr/>
            <p:nvPr/>
          </p:nvSpPr>
          <p:spPr>
            <a:xfrm>
              <a:off x="5258880" y="14479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25160" y="35053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"/>
          <p:cNvSpPr/>
          <p:nvPr/>
        </p:nvSpPr>
        <p:spPr>
          <a:xfrm flipV="1">
            <a:off x="4952880" y="1980720"/>
            <a:ext cx="1600200" cy="3581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6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7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788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89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1951200" y="2133720"/>
          <a:ext cx="5133960" cy="2182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51200" y="2133720"/>
                    <a:ext cx="513396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01" name="Jeopardy%20Thumbnail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">
              <a:hlinkClick r:id="rId5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805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07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08" name=""/>
          <p:cNvGraphicFramePr/>
          <p:nvPr/>
        </p:nvGraphicFramePr>
        <p:xfrm>
          <a:off x="76320" y="3024360"/>
          <a:ext cx="2743200" cy="116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320" y="3024360"/>
                    <a:ext cx="274320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0" name=""/>
          <p:cNvGrpSpPr/>
          <p:nvPr/>
        </p:nvGrpSpPr>
        <p:grpSpPr>
          <a:xfrm>
            <a:off x="3125160" y="1447920"/>
            <a:ext cx="4240800" cy="4114800"/>
            <a:chOff x="3125160" y="1447920"/>
            <a:chExt cx="4240800" cy="4114800"/>
          </a:xfrm>
        </p:grpSpPr>
        <p:graphicFrame>
          <p:nvGraphicFramePr>
            <p:cNvPr id="811" name=""/>
            <p:cNvGraphicFramePr/>
            <p:nvPr/>
          </p:nvGraphicFramePr>
          <p:xfrm>
            <a:off x="4191120" y="1905120"/>
            <a:ext cx="3174840" cy="3657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1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191120" y="1905120"/>
                      <a:ext cx="317484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3" name=""/>
            <p:cNvSpPr/>
            <p:nvPr/>
          </p:nvSpPr>
          <p:spPr>
            <a:xfrm>
              <a:off x="5258880" y="14479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25160" y="35053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/>
          <p:cNvSpPr/>
          <p:nvPr/>
        </p:nvSpPr>
        <p:spPr>
          <a:xfrm flipV="1">
            <a:off x="4800600" y="16002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ind the Slo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6280" y="1457280"/>
          <a:ext cx="3952800" cy="374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6280" y="1457280"/>
                    <a:ext cx="395280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057640" y="1457280"/>
          <a:ext cx="3498840" cy="385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57640" y="1457280"/>
                    <a:ext cx="3498840" cy="38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648320" y="137160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j010517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82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24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827" name=""/>
          <p:cNvGraphicFramePr/>
          <p:nvPr/>
        </p:nvGraphicFramePr>
        <p:xfrm>
          <a:off x="1447920" y="1828800"/>
          <a:ext cx="6119640" cy="3133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47920" y="1828800"/>
                    <a:ext cx="611964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34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838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40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1" name=""/>
          <p:cNvGraphicFramePr/>
          <p:nvPr/>
        </p:nvGraphicFramePr>
        <p:xfrm>
          <a:off x="4910040" y="2854440"/>
          <a:ext cx="1430280" cy="1430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10040" y="2854440"/>
                    <a:ext cx="143028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"/>
          <p:cNvGraphicFramePr/>
          <p:nvPr/>
        </p:nvGraphicFramePr>
        <p:xfrm>
          <a:off x="76320" y="2786040"/>
          <a:ext cx="2743200" cy="1405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786040"/>
                    <a:ext cx="274320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886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9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91120" y="5638680"/>
            <a:ext cx="1209600" cy="1055880"/>
          </a:xfrm>
          <a:prstGeom prst="rect">
            <a:avLst/>
          </a:prstGeom>
          <a:ln w="0">
            <a:noFill/>
          </a:ln>
        </p:spPr>
      </p:pic>
      <p:grpSp>
        <p:nvGrpSpPr>
          <p:cNvPr id="85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52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3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990720" y="1600200"/>
          <a:ext cx="6119640" cy="363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1600200"/>
                    <a:ext cx="6119640" cy="36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63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867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69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70" name=""/>
          <p:cNvGraphicFramePr/>
          <p:nvPr/>
        </p:nvGraphicFramePr>
        <p:xfrm>
          <a:off x="4965840" y="2800440"/>
          <a:ext cx="132084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65840" y="2800440"/>
                    <a:ext cx="132084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"/>
          <p:cNvGraphicFramePr/>
          <p:nvPr/>
        </p:nvGraphicFramePr>
        <p:xfrm>
          <a:off x="76320" y="2562120"/>
          <a:ext cx="2743200" cy="162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562120"/>
                    <a:ext cx="274320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877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8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88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81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5" name=""/>
          <p:cNvGraphicFramePr/>
          <p:nvPr/>
        </p:nvGraphicFramePr>
        <p:xfrm>
          <a:off x="1447920" y="1905120"/>
          <a:ext cx="6038640" cy="297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1905120"/>
                    <a:ext cx="6038640" cy="29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2819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92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3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896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98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99" name=""/>
          <p:cNvGraphicFramePr/>
          <p:nvPr/>
        </p:nvGraphicFramePr>
        <p:xfrm>
          <a:off x="3203640" y="2800440"/>
          <a:ext cx="484344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3640" y="2800440"/>
                    <a:ext cx="484344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1" name=""/>
          <p:cNvGraphicFramePr/>
          <p:nvPr/>
        </p:nvGraphicFramePr>
        <p:xfrm>
          <a:off x="76320" y="2840040"/>
          <a:ext cx="2743200" cy="1351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840040"/>
                    <a:ext cx="274320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5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7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8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909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10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1905120" y="1752480"/>
          <a:ext cx="5257800" cy="355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1752480"/>
                    <a:ext cx="525780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21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925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6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27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28" name=""/>
          <p:cNvGraphicFramePr/>
          <p:nvPr/>
        </p:nvGraphicFramePr>
        <p:xfrm>
          <a:off x="3259080" y="2800440"/>
          <a:ext cx="473400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59080" y="2800440"/>
                    <a:ext cx="473400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0" name=""/>
          <p:cNvGraphicFramePr/>
          <p:nvPr/>
        </p:nvGraphicFramePr>
        <p:xfrm>
          <a:off x="76320" y="2336760"/>
          <a:ext cx="2743200" cy="1854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336760"/>
                    <a:ext cx="274320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4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6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7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938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39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3" name=""/>
          <p:cNvGraphicFramePr/>
          <p:nvPr/>
        </p:nvGraphicFramePr>
        <p:xfrm>
          <a:off x="1905120" y="2027160"/>
          <a:ext cx="5562360" cy="284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2027160"/>
                    <a:ext cx="556236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50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95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56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57" name=""/>
          <p:cNvGraphicFramePr/>
          <p:nvPr/>
        </p:nvGraphicFramePr>
        <p:xfrm>
          <a:off x="2971800" y="2941560"/>
          <a:ext cx="5410080" cy="1236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2941560"/>
                    <a:ext cx="541008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9" name=""/>
          <p:cNvGraphicFramePr/>
          <p:nvPr/>
        </p:nvGraphicFramePr>
        <p:xfrm>
          <a:off x="76320" y="2786040"/>
          <a:ext cx="2743200" cy="1405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786040"/>
                    <a:ext cx="274320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Solv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90720" y="1981080"/>
          <a:ext cx="7005600" cy="280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981080"/>
                    <a:ext cx="700560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971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3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5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7" name="j010517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968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69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972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4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80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98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86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87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1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992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3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4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99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96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0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124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07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8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101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2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13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14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1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8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1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1022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23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7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04920" y="914400"/>
            <a:ext cx="853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35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103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0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41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42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8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9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105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51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2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5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62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3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1066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7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68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69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3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1074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5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6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107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78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9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081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2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-360" y="-38088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89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1093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95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96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Graph My L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6320" y="2286000"/>
          <a:ext cx="2743200" cy="126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286000"/>
                    <a:ext cx="274320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3125160" y="1447920"/>
            <a:ext cx="4240800" cy="4114800"/>
            <a:chOff x="3125160" y="1447920"/>
            <a:chExt cx="4240800" cy="4114800"/>
          </a:xfrm>
        </p:grpSpPr>
        <p:graphicFrame>
          <p:nvGraphicFramePr>
            <p:cNvPr id="148" name=""/>
            <p:cNvGraphicFramePr/>
            <p:nvPr/>
          </p:nvGraphicFramePr>
          <p:xfrm>
            <a:off x="4191120" y="1905120"/>
            <a:ext cx="3174840" cy="3657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91120" y="1905120"/>
                      <a:ext cx="317484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>
              <a:off x="5258880" y="14479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25160" y="35053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V="1">
            <a:off x="5410080" y="1218960"/>
            <a:ext cx="1371600" cy="43434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5720" y="464832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Plot y-intercept (-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88600" y="5791320"/>
            <a:ext cx="458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Count off rise over run (3 over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Connect the d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038480" y="4495320"/>
            <a:ext cx="1676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172200" y="3428640"/>
            <a:ext cx="5335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Jeopardy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567080" y="0"/>
            <a:ext cx="619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1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1102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3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105" name="Jeopardy%20Thumbnail" descr=""/>
            <p:cNvPicPr/>
            <p:nvPr/>
          </p:nvPicPr>
          <p:blipFill>
            <a:blip r:embed="rId2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"/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108" name="j0105174" descr=""/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9" name=""/>
          <p:cNvGraphicFramePr/>
          <p:nvPr/>
        </p:nvGraphicFramePr>
        <p:xfrm>
          <a:off x="2249640" y="2124000"/>
          <a:ext cx="4719600" cy="277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9640" y="2124000"/>
                    <a:ext cx="471960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2819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Jeopardy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953680" y="0"/>
            <a:ext cx="318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116" name="Jeopardy%20Thumbnail" descr=""/>
            <p:cNvPicPr/>
            <p:nvPr/>
          </p:nvPicPr>
          <p:blipFill>
            <a:blip r:embed="rId2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7" name=""/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19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1120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1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22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23" name=""/>
          <p:cNvGraphicFramePr/>
          <p:nvPr/>
        </p:nvGraphicFramePr>
        <p:xfrm>
          <a:off x="3919680" y="2800440"/>
          <a:ext cx="3411360" cy="153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9680" y="2800440"/>
                    <a:ext cx="341136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5" name=""/>
          <p:cNvGraphicFramePr/>
          <p:nvPr/>
        </p:nvGraphicFramePr>
        <p:xfrm>
          <a:off x="76320" y="2576520"/>
          <a:ext cx="2743200" cy="1614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2576520"/>
                    <a:ext cx="274320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Jeopardy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09480" y="2895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e 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1134" name=""/>
          <p:cNvSpPr/>
          <p:nvPr/>
        </p:nvSpPr>
        <p:spPr>
          <a:xfrm>
            <a:off x="1752120" y="1219320"/>
            <a:ext cx="30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0065A Slot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36" name=""/>
          <p:cNvSpPr/>
          <p:nvPr/>
        </p:nvSpPr>
        <p:spPr>
          <a:xfrm>
            <a:off x="1828800" y="19810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74879 Space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3"/>
          <a:stretch/>
        </p:blipFill>
        <p:spPr>
          <a:xfrm>
            <a:off x="838080" y="3048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38" name=""/>
          <p:cNvSpPr/>
          <p:nvPr/>
        </p:nvSpPr>
        <p:spPr>
          <a:xfrm>
            <a:off x="1828800" y="289548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74877 Space Las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520" y="5638680"/>
            <a:ext cx="423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Not Dele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ins objects for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0" name="" descr=""/>
          <p:cNvPicPr/>
          <p:nvPr/>
        </p:nvPicPr>
        <p:blipFill>
          <a:blip r:embed="rId4"/>
          <a:stretch/>
        </p:blipFill>
        <p:spPr>
          <a:xfrm>
            <a:off x="853920" y="3844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41" name=""/>
          <p:cNvSpPr/>
          <p:nvPr/>
        </p:nvSpPr>
        <p:spPr>
          <a:xfrm>
            <a:off x="1904760" y="373392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97484 Large Explo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nd and other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3" name=""/>
          <p:cNvGrpSpPr/>
          <p:nvPr/>
        </p:nvGrpSpPr>
        <p:grpSpPr>
          <a:xfrm>
            <a:off x="4724280" y="4191120"/>
            <a:ext cx="4181400" cy="2233440"/>
            <a:chOff x="4724280" y="4191120"/>
            <a:chExt cx="4181400" cy="2233440"/>
          </a:xfrm>
        </p:grpSpPr>
        <p:pic>
          <p:nvPicPr>
            <p:cNvPr id="1144" name="" descr=""/>
            <p:cNvPicPr/>
            <p:nvPr/>
          </p:nvPicPr>
          <p:blipFill>
            <a:blip r:embed="rId5"/>
            <a:stretch/>
          </p:blipFill>
          <p:spPr>
            <a:xfrm>
              <a:off x="5486400" y="4191120"/>
              <a:ext cx="238104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5" name=""/>
            <p:cNvSpPr txBox="1"/>
            <p:nvPr/>
          </p:nvSpPr>
          <p:spPr>
            <a:xfrm>
              <a:off x="4724280" y="4876920"/>
              <a:ext cx="418140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DAILY DOUBLE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1146" name="" descr=""/>
          <p:cNvPicPr/>
          <p:nvPr/>
        </p:nvPicPr>
        <p:blipFill>
          <a:blip r:embed="rId6"/>
          <a:stretch/>
        </p:blipFill>
        <p:spPr>
          <a:xfrm>
            <a:off x="838080" y="4648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>
            <a:off x="1906560" y="45720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74988 Space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gn 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Design Credits – Version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33520" y="129528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Point Slide Show crea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y Wy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n Hope High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risville, 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Randy%202002%20School%20Photo" descr=""/>
          <p:cNvPicPr/>
          <p:nvPr/>
        </p:nvPicPr>
        <p:blipFill>
          <a:blip r:embed="rId2"/>
          <a:srcRect l="0" t="0" r="0" b="4599"/>
          <a:stretch/>
        </p:blipFill>
        <p:spPr>
          <a:xfrm>
            <a:off x="3657600" y="3429000"/>
            <a:ext cx="1798560" cy="2362320"/>
          </a:xfrm>
          <a:prstGeom prst="rect">
            <a:avLst/>
          </a:prstGeom>
          <a:ln w="0">
            <a:noFill/>
          </a:ln>
        </p:spPr>
      </p:pic>
      <p:sp>
        <p:nvSpPr>
          <p:cNvPr id="1155" name=""/>
          <p:cNvSpPr/>
          <p:nvPr/>
        </p:nvSpPr>
        <p:spPr>
          <a:xfrm>
            <a:off x="1676520" y="586728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ed from Slide Show by Carol N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isio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Revision Histo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" y="1295280"/>
            <a:ext cx="80010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sion 4 – June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 points to doll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ed link to credits screen by clicking on “Math Jeopardy” on game 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 problems and answers to generic place hol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or color and sound changes on opening game scr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lp for Teachers – Keep as las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Help for Teac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371600" y="1143000"/>
            <a:ext cx="7162920" cy="56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reate a new set of categories and problem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date topics on title screen (slide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ame category headers on question board (slide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 category help slides (immediately following question bo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ify questions and answers (answers immediately follow each question sli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t and Paste Daily Dou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p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stions and answers are MathType objects.  It is easier if you keep it that way.  Even for text probl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put copy of question on the answer slide, copy and paste the MathType object from the question slide then resiz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XIT graphic on the game board will exit WITHOUT saving anything.  It is intended for student use when play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ke sure you test your game to make sure everything is linked and working correc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n playing the intro screen of the game you can click in the lower right corner at any time to skip the intro and go directly to the question bo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 NO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 any hyperlin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867280" y="6324480"/>
            <a:ext cx="305964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 &lt;ctrl&gt;&lt;home&gt; to return to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On the L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1523880"/>
            <a:ext cx="563868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506400" y="1447920"/>
            <a:ext cx="4240080" cy="4114800"/>
            <a:chOff x="3506400" y="1447920"/>
            <a:chExt cx="4240080" cy="4114800"/>
          </a:xfrm>
        </p:grpSpPr>
        <p:graphicFrame>
          <p:nvGraphicFramePr>
            <p:cNvPr id="164" name=""/>
            <p:cNvGraphicFramePr/>
            <p:nvPr/>
          </p:nvGraphicFramePr>
          <p:xfrm>
            <a:off x="4572000" y="1905120"/>
            <a:ext cx="3174480" cy="3657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0" y="1905120"/>
                      <a:ext cx="317448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>
              <a:off x="5639400" y="14479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06400" y="35053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 flipV="1">
            <a:off x="4876920" y="1219320"/>
            <a:ext cx="2286000" cy="4876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320" y="1905120"/>
          <a:ext cx="3124080" cy="2301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1905120"/>
                    <a:ext cx="312408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6400800" y="251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4381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4824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48240" y="2247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629400" y="2666880"/>
          <a:ext cx="914400" cy="559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29400" y="2666880"/>
                    <a:ext cx="91440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6858000" y="4102200"/>
          <a:ext cx="731880" cy="317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0" y="4102200"/>
                    <a:ext cx="7318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724280" y="3352680"/>
          <a:ext cx="731880" cy="317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724280" y="3352680"/>
                    <a:ext cx="7318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724280" y="1905120"/>
          <a:ext cx="731880" cy="317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724280" y="1905120"/>
                    <a:ext cx="7318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105520" y="5715000"/>
          <a:ext cx="1676160" cy="479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105520" y="5715000"/>
                    <a:ext cx="16761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at6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971800" y="2438280"/>
          <a:ext cx="331164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31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CPSS</cp:lastModifiedBy>
  <dcterms:modified xsi:type="dcterms:W3CDTF">2003-11-05T14:42:33Z</dcterms:modified>
  <cp:revision>189</cp:revision>
  <dc:subject/>
  <dc:title>PowerPoint Presentation</dc:title>
</cp:coreProperties>
</file>